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A7B-0DE4-42E4-8A75-5C204293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5CB-2976-41FA-AC7B-3AC6B8BE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076-EA94-4EBB-9525-60D2D207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4CB-4E3F-4C4F-991D-9226047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D0B3-49BF-485D-9870-2C0774FE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A299-73AD-4F5C-BA0C-6C08DF3E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4EB-0B95-43EA-B9FE-F4FFCFE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88C-6301-41B9-A4F2-AFCF5917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F009-6885-4DFF-BC47-ABE1BC7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D81-56CC-475D-B9A2-4FEAD2E6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169-3837-4FE0-B1D4-B86C0C0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6ED-41B4-48CB-9EE6-C38122D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7E5-E79A-4407-9CDE-C8797E1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990-B15F-4B30-822E-71B268C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FAB0-16A0-4754-9B7F-82460F8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D8B-DB33-4486-BC56-415101AE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B32-B8D4-4404-A90D-1E0E3C8E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985-F70F-4E3D-8F7B-DDC20EBE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568-3C92-4EC3-83A2-E59694E4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B27-C04C-433D-A46C-EEA1DDCB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BB-2352-4B2C-A974-A12610E3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B27-32DD-4062-A425-B11C3B4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AD2-8EC2-4071-8CF8-5FC4743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295-790D-4FAA-B37F-F4B6599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6FD4-6E79-42E2-805E-EB44548A21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542-4B34-4074-90F6-D6C166E72B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16E9353C-CC71-4A21-BD06-75A8E9CAAE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ομεν και τηρουμεν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D0B62D90-F2C6-4172-85F7-6F869B7FAF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700" spc="-1" strike="noStrike">
                <a:solidFill>
                  <a:srgbClr val="ffffff"/>
                </a:solidFill>
                <a:latin typeface="Gentium"/>
              </a:rPr>
              <a:t>i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8-09-07T14:16:52Z</dcterms:modified>
  <cp:revision>14</cp:revision>
  <dc:subject/>
  <dc:title>Slide 1</dc:title>
</cp:coreProperties>
</file>